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8EB-30A9-478D-B200-EC2A8C90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A3A-0106-4E5E-B118-CF1D13A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829-4569-461D-B363-70CDB2D6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99E-B35C-46F7-B077-319C21C8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9735-396D-4DEE-9DB1-8E8246AA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AE9-60FB-4830-BFBD-73110F1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756-1305-4134-A956-5E60759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F76B-4686-490F-86C3-C68392C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1FE-8447-455F-B886-1CF9FCA3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7BFA-ACDE-46EC-BC6E-4A766116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DC9-7E3C-4EB4-B74C-6C683C2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601-C69C-45C8-9CB0-4833CEC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DF4-22C5-4303-B41D-7C444C6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86B1-CF14-4296-A774-667472D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74D9-399E-4A6F-BBF2-07FB74F4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616C-670F-466E-B30E-78DAE4A2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2222-558A-433C-8261-719ED924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45F-9809-47BC-A495-09F86AD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E1B-CC06-4A54-9D43-6FFE3E5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FB1-F446-4A6A-9DEC-010FA0D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970-16BD-4983-B8E5-7001A08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E41-EE6A-432E-8B30-1D8C088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B5C-4217-456F-80C7-B68611B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72D-A54E-415D-BD47-7BD9605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E352-D755-447B-93E3-D579176A4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B99B-5ACE-47DA-910F-82B43BB4D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msreading.wikispaces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jmsreading.wikispaces.co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m Sug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kes hor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no fami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 years o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Jeb Stuart’s regi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ts freaked out at the site of the dead horses after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ora Wheelwo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alth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ns-in-law go to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rts Soldier’s Friend Leag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nder why the Confederate Army is not advanc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 becomes a hospital for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by Boy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1 years o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xious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lays the fif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o young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 used to the drunk and rowdy men in cam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ns home scared after he sees dying 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gil Peav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des a train for the 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ghts with Bee’s briga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kes a pact with Tu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uck is shot and killed and Virgil leaves him behi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William Ry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trade is heal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kes soldiers well just so they can go to battle and d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tting off arms and leg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ah Jenk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es Colonel Ellsworth get sho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rier – rides a hor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es his hor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des to the battlefront to get word on the Yank’s po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lotta 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woman to a Lieuten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me up from 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e wants to run to freedom, but is afraid she will get sent ba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ly Mall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ther is har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is her bro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runs away to fight in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is killed in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deon Ad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ack 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ies to act whi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his na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$13.00 per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ides to re-enl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nts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te soldiers talk badly about blacks in his pres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get to fight in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mes Dac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ketch artist for newspap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vels w/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es Zuave soldiers with Ellsw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 upset he can’t draw after the skirmish he se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ubts the 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nders why the Union is just giving u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Battle of Manassas – Bull R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ccurred on July 21,186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Irvin McDowell – commander of the Union Army – 35,000 tro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P.G.T. Beauregard – commander of the Confederate force – 22,000 tro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on Army lost this battle at Bull R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haniel Ep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otograp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ges 20 cents for phot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have o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trich Her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rman immigr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eps picture in his pocket of lady that made his shi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ts suicide note in his shi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nded and left for dead on battle fie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legs amputate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ral Irvin McDowe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only lead 100 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have a map of Virgi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experi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ldiers want to leave the un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watches his line fall apart as they lose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.B. Tilbu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ots cannon for the 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ttacked by Confederates that were dressed in bl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t in both arms, but could ru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mund Upw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riage driver for 2 Union Congressmen and their wi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stens to what they are saying without them know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nds escape rou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to escape the picnic area once the Union start retrea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787px-US_Secession_map_1861_svg"/>
          <p:cNvPicPr/>
          <p:nvPr/>
        </p:nvPicPr>
        <p:blipFill>
          <a:blip r:embed="rId1"/>
          <a:stretch/>
        </p:blipFill>
        <p:spPr>
          <a:xfrm>
            <a:off x="380880" y="533520"/>
            <a:ext cx="8487000" cy="5208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934320" y="277956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937560" y="27432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Map Showing Confederate Success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on Commander – North/Yank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lonel Elmer Ellsw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00"/>
                </a:solidFill>
                <a:latin typeface="Arial"/>
              </a:rPr>
              <a:t>(killed; McDowell takes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250px-Elmer_Ellsworth"/>
          <p:cNvPicPr/>
          <p:nvPr/>
        </p:nvPicPr>
        <p:blipFill>
          <a:blip r:embed="rId1"/>
          <a:stretch/>
        </p:blipFill>
        <p:spPr>
          <a:xfrm>
            <a:off x="5181480" y="1828800"/>
            <a:ext cx="30434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on Commander – North/Yank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al Irvin McDowel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00"/>
                </a:solidFill>
                <a:latin typeface="Arial"/>
              </a:rPr>
              <a:t>(lacks experi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300px-Irv_mcdowell"/>
          <p:cNvPicPr/>
          <p:nvPr/>
        </p:nvPicPr>
        <p:blipFill>
          <a:blip r:embed="rId1"/>
          <a:stretch/>
        </p:blipFill>
        <p:spPr>
          <a:xfrm>
            <a:off x="5108400" y="1828800"/>
            <a:ext cx="315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ederate Leader – South/Reb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.G. T. Beaureg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230px-Pgt_beauregard"/>
          <p:cNvPicPr/>
          <p:nvPr/>
        </p:nvPicPr>
        <p:blipFill>
          <a:blip r:embed="rId1"/>
          <a:stretch/>
        </p:blipFill>
        <p:spPr>
          <a:xfrm>
            <a:off x="5226120" y="1860480"/>
            <a:ext cx="29210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ident of the Confederate St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00"/>
                </a:solidFill>
                <a:latin typeface="Arial"/>
              </a:rPr>
              <a:t>( travels by train to Bull Run to see the Union collaps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225px-President-Jefferson-Davis"/>
          <p:cNvPicPr/>
          <p:nvPr/>
        </p:nvPicPr>
        <p:blipFill>
          <a:blip r:embed="rId1"/>
          <a:stretch/>
        </p:blipFill>
        <p:spPr>
          <a:xfrm>
            <a:off x="4876920" y="1905120"/>
            <a:ext cx="28652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nel Oliver Bratt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likes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nows the cruelty of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agrees with General Beaureg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15:14Z</dcterms:created>
  <dc:creator>teasterling</dc:creator>
  <dc:description/>
  <dc:language>en-US</dc:language>
  <cp:lastModifiedBy>Heather and Troy</cp:lastModifiedBy>
  <dcterms:modified xsi:type="dcterms:W3CDTF">2009-08-15T21:36:02Z</dcterms:modified>
  <cp:revision>24</cp:revision>
  <dc:subject/>
  <dc:title>Bull Run – by Paul Fleischman</dc:title>
</cp:coreProperties>
</file>